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366-8497-4E86-B906-31A1AE99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6410-185B-45CF-B949-BAFE72A7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756-8712-4341-9884-97FE79FD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AAB-DC9D-4A9C-A687-F3C28D6F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103D-A958-452C-9214-E0DE56E2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1441-DC8E-4A31-9979-CF998B44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14D3-72C2-42CD-B5AF-AC2FC129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BAF1-F069-4355-84EA-0CA1E376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427F-C86C-45BE-89B1-3F981C5B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EDE5-EC26-4A29-97F1-7B94A08F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C14C-ABDB-49BC-9F46-F39170AC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118-9506-45FC-A7B7-26965954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042F-5618-4022-8627-C7CFAFC5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977B-B0E3-4478-9033-9541D2DA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1944-9DFD-4631-B8B4-5DCB3A31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9AD3-1FC4-43C3-9337-AD1FBDF7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8BAF-4126-404A-9E3B-C81861C7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79F-921D-4AC8-B554-CDD69D99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0E6-46AA-47E0-AF90-E152B6ED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933-6E72-4825-87AE-92501650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6DB-306E-4950-BB45-7933E95B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05A-1AAE-45F0-92A0-42238AC3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5F8-2AD0-48CD-90A9-F578D366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96EF-B154-4D09-A3FC-2DDAC650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7B74-0A39-4B10-BB92-CD2ADA638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2680-EAB5-462B-B10C-1E752C4828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77234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8edf2"/>
                </a:solidFill>
                <a:latin typeface="Tahoma"/>
              </a:rPr>
              <a:t>The Final Project</a:t>
            </a:r>
            <a:endParaRPr b="0" lang="en-US" sz="6000" spc="-1" strike="noStrike">
              <a:solidFill>
                <a:srgbClr val="e8edf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8edf2"/>
                </a:solidFill>
                <a:latin typeface="Tahoma"/>
              </a:rPr>
              <a:t>Warm-up</a:t>
            </a:r>
            <a:endParaRPr b="0" lang="en-US" sz="6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 in to the Wikis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ach classmate’s accommodated assignment on his/her wiki page from the Session 8 lin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person’s assignment, click on the discussion tab and leave comments that inclu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 things they did well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 your suggestions for cha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hecklist for Final Projec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through the checklist for your final project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ill need to post the following pieces on your Session 9 Wikispace pag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less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d “Co-Teaching Planning Form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accommodated activity or assess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edf2"/>
                </a:solidFill>
                <a:latin typeface="Tahoma"/>
              </a:rPr>
              <a:t>If you finish early…</a:t>
            </a:r>
            <a:endParaRPr b="0" lang="en-US" sz="48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one of the following and wri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flection in your binder about how you can apply what you’ve learn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articles we haven’t read from the Wikispace homep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isunderstood Minds website from Session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s and quizzes on Co-teaching Models from Session 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sites in the Motivation Resource Packet from Session 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8edf2"/>
                </a:solidFill>
                <a:latin typeface="Tahoma"/>
              </a:rPr>
              <a:t>Closure</a:t>
            </a:r>
            <a:endParaRPr b="0" lang="en-US" sz="6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the comments that your classmates posted from warm-up today (your page on the Session 8 pag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a reflection in your binder based on the comments that were left about your accommodated activ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5:09:17Z</dcterms:created>
  <dc:creator>fcps</dc:creator>
  <dc:description/>
  <dc:language>en-US</dc:language>
  <cp:lastModifiedBy>fcps</cp:lastModifiedBy>
  <dcterms:modified xsi:type="dcterms:W3CDTF">2009-04-01T17:11:59Z</dcterms:modified>
  <cp:revision>3</cp:revision>
  <dc:subject/>
  <dc:title>The Final Project</dc:title>
</cp:coreProperties>
</file>